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5.jpeg" ContentType="image/jpeg"/>
  <Override PartName="/ppt/media/image6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933-9BFA-4E29-99DB-E27A1E1C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9A0-4C82-497A-A445-1E0F8C4B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03A-4D24-4DCF-A01B-5A276E8B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E66-7703-4557-8F84-A89242B0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9E98-A780-4E67-BAFA-669E8EFC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6BF3-0A7A-4C58-97D5-33DB98DF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65C3-9398-4503-94DE-A7703E40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2700-0178-4093-8136-6800766B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9330-90D7-47EA-9E84-7057CDDD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01C6-2BD0-43D1-B1E7-EC491B75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958A-8D46-4FF9-AE35-FF0F78D8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B34-E741-42B3-9B3C-F270BF07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D61C-E8BF-49A8-B4F3-4018BACC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041F-43BA-4E91-B6B1-7FAC2651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DF53-5252-4A74-B1D8-05045999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9C72-880D-4DBA-99F1-5C12FC49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9B4D-1221-4DE6-A4DB-A3F82499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49F-20E7-4EA3-A47A-E8D0EE1D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2B4-267D-4F24-AE9B-09906203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16D-F3F0-4282-A27E-42E1AC1E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65C-68BA-4172-8973-185C5303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AF1-CFFD-415C-BD3B-1B8053D1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B4E-DCE6-4BA2-80DF-69CFB07B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D2D-F1E6-433D-A1EB-E80519AE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F8A4-7CC7-4679-9EF5-7204B5335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D1FB-F848-4E50-920B-1B414148B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oking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y : Emily Sw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9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occurs when a person’s airway becomes blocked by food or another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flipH="1" rot="8767800">
            <a:off x="0" y="31233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24000">
            <a:off x="7620120" y="20570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Macintosh HD:Users:student:Desktop:femalecough2_stereo.wav" descr=""/>
          <p:cNvPicPr/>
          <p:nvPr/>
        </p:nvPicPr>
        <p:blipFill>
          <a:blip r:embed="rId3"/>
          <a:stretch/>
        </p:blipFill>
        <p:spPr>
          <a:xfrm>
            <a:off x="8534520" y="655308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8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58"/>
                            </p:stCondLst>
                            <p:childTnLst>
                              <p:par>
                                <p:cTn id="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king in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bdominal thrusts method- pull quickly upwards on their stomach to force food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wards make sure victim is okay and brea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0__x0010__x0010__x0010__x0010__x0010__x0010__x0010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king in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hildren, use the chest thrusts method- quick presses on their chest to force food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child on your thigh and support head as you pu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you are chok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know you’re choking, try to tell someone right a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 one is around, use a sturdy object like a sofa/couch or 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2667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7:41Z</dcterms:created>
  <dc:creator>Kraybill Campus LMS</dc:creator>
  <dc:description/>
  <dc:language>en-US</dc:language>
  <cp:lastModifiedBy>Kraybill Campus LMS</cp:lastModifiedBy>
  <dcterms:modified xsi:type="dcterms:W3CDTF">2011-05-26T16:20:47Z</dcterms:modified>
  <cp:revision>4</cp:revision>
  <dc:subject/>
  <dc:title>Choking By : Emily Swope</dc:title>
</cp:coreProperties>
</file>